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9BBB1-C489-43E7-9549-913FF6E947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5F3893-C476-4A80-89A6-65200012BF7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CE5E7E-A5D0-418D-896C-79623CB2A8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8B817D-F0C9-4D56-BE16-AF5E28F8E6F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2632EF-959D-41A7-BF86-EFEBE0A6675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AEFBC0-B050-4D8A-B033-B36572AE172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86A99D-2D25-430F-9C62-DFBCADC9A28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BAB52F-DCFF-4263-9B29-3DA32FEB70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810C5-EBB7-4068-99F2-4EAF4C48072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0CCDA-2C42-4B8C-8550-718439AF8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B286-15AC-4BB3-BE0C-54C302875C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1E148-F137-4935-A20C-183B34EAB2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9E9B0-92FE-4EFB-80F5-9143B8AC5CD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F1AF7-7526-4DB2-BEBF-DD30D6D94ED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74C0-DA87-41DC-99D5-1C212E8993E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1D733-83E8-4C48-9BA3-11C5CB9B47D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8F887-E952-468F-A9F3-E38F306FB3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6C65A-E060-40F0-BC49-79036A9719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F010E-9A18-469C-A6AE-6AA6589F61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CF51-2E2C-4C0A-BDD8-70239C56F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DBAA0-0D1A-453C-8E40-DF7DA4B70A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F9733-3C51-4B77-855B-8000DAD313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A8465-0EB5-4A5D-A4F8-78DFAA477C6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C9EE7-7CCC-4F11-A709-D5822CCD7BB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8CAD5-E6BF-465D-B5EF-FF780AA88A8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E78A8-51BE-45B5-921A-0868D4826AD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DC185-FC21-4D0F-BEA6-986530D5616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C20B8-C58D-4957-A25E-0BE21A00D29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F220F-0792-4BD6-A479-8C4C6465E8F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1CF50-EDC5-4BDE-B4A9-03B765CD9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B6B8-01A7-4398-A889-3DADAB17170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5A58D-43CD-45FF-8C75-3457A2C6860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9DB94-8976-4FB4-8431-7953F55B78F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2955D-5929-4A5A-9289-DD491222C7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DB9C-48FD-4638-AA0B-D460A4BD82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161F-E8B5-40BF-8BDC-55E0B68A81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94EA-9F94-490B-B5CE-4B84A0D4A1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C445-D3F5-4573-B81F-C1C12C24E7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F28D-87C0-404D-928E-94A4E329AD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2D4D-3166-4102-8072-B4EF2F574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49C1-E81E-4F98-8550-F9141B661D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A4F5-B9A2-44E5-841B-3739835F80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0CD6-E594-408C-A5B4-0152DB9E64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6F7C-D9FE-44CA-8721-78241CA95E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3ADF-1318-4728-9666-62B33BA7ED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7A516-C68B-4D50-96E4-DB24ED103E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89D69-B527-4DE1-80BE-DA766E693E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C483E-5989-4607-B933-F9A8FDB6CA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EEDBB-922B-45DC-A91B-2C38692714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D4948-EDB8-4D8C-ADB4-BAD94A899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F728D-DA1D-4CAE-93AD-8074AAD3B6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E64C5-A01E-4358-AB29-950BF33A13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227DB-01C4-42E9-9CBE-7F17B2BB67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7F035-DE05-412B-9BC8-C0074C1DEA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60AB5-AB0B-4A56-A036-5F48C91DD2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294FF-C9DD-485C-AA6B-C636F38230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C36EB-66F6-4256-83F3-F0A9E5E097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ED0D-2758-4024-895D-C41F0363BE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7311-2691-4E42-AE90-61F2A1839E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6CE8-2513-4929-ABFF-0E9C3E1B8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518C-4600-4731-B0F8-68EE6D99FC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218D-79F5-4118-9B7C-C652ACF8E3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6EDB-AF19-47F9-92AE-120CA8E7D8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72F4-CC68-4CE1-B529-EDACCA5B7A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BCC6-9ADB-41B2-852A-47FF45677A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0E05-D559-403A-9A75-130DC9F1DC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BE2E-EC3F-49BB-99CA-C5BB9A36FE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38B1-DAEC-4505-87B7-4A52765515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2B89-D513-431E-A78F-BF5B175AE7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09F09-EDB8-4766-BF59-6C2B58925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34B70-4F96-42AD-8256-07B8895FD0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4EED5-63AE-4D50-85AD-93CE47380A4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3B366-4ECF-4AB4-930B-ECAAB4F8C33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14488-F687-4AEC-A654-99293AFEBF3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451F6-6CAC-4477-8937-76F8F04F986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FF920-8A65-4DCB-8BCB-2DD8DBEA55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35F43-188D-4EFC-8444-32691F8BCC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E616A-8539-4F2A-94D4-5DECC6C398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26C8A-4F92-470D-94D4-4ECDFECF30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FDE42-2A49-498B-B7E7-F0E06F883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60B8E-2F83-4F20-B6C5-34748111560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4C5C2-A7B5-45D3-A544-F7ED66809E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89527-1FB5-4364-880A-C68C15654F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E14A0-1E72-42AF-97FB-3F2B1315696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76429-C6B9-41A3-8EBA-D6463E54F3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4D535-3FFB-454F-8485-7B62A8FC3B9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8C61D-0AAA-4545-9598-A0B4883141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3885C-72B4-49EE-819A-DD405F1094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82BD5-2877-43A0-9FBE-CC0C7F51BF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1E49B-6410-4832-9466-5846EA1B3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5B03A-D2B1-4663-98E2-A3E6F0FBCE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DDCC3-36DE-40E0-A06A-82D7BAF1525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8A10F-AF33-4AA5-ABF8-55E45F1EC5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E1A34-B6AF-467A-9F49-2B0A153DFB0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2BFF3-CD7D-410A-BC01-FD3D062AA3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A245-CE89-4B7E-AC5A-3BCB2084374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B748-6B94-4459-9FDE-4B2C1DB728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6760-09E2-4166-B5A2-D3F5BB7447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2A1A-5F22-4EE9-B283-3D3D5F8983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02669-6A02-4D5B-BDBB-7A9113C80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DBE5-2316-4700-A10B-805D576FFE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D88D-9E7A-49E2-BBC4-E2BC5C478FA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F0D5-31A0-413C-93AC-0A0755EF9EA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1A528-66B5-43B5-A56C-9E86727539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7056-FCA9-4812-8334-4FE19641AF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67D25-3F73-4CB3-84B1-D447D243108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F66F7-3202-4BF7-AA7F-870E9AE6162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F2619-E1A3-486B-8407-AA74C1B13A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6CE41-0026-4467-853A-37B5A52107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C45BC-51E2-4366-8283-CD66E88BD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7DB5B-36DC-493E-B3EF-39BFE27479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B1974-89B4-4C29-8175-2A3F432F2BE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E0815-A510-4216-A38B-A0BC2E40C58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43787-D73D-450A-AF80-90CDA0B34E7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CB840-B4E3-4B2E-97A5-43D90FFBC8B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34924-7D3A-4E71-BFFB-1E076050BB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FB021-E84B-45D2-9DC4-CC40A170823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98DF4D-224A-4CC1-9714-2424F61F356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4F5CD0-5DCA-41FB-BDEF-918DE017C3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768DB4-E802-48B3-A62B-8A0BE432B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29CC-AD55-477D-ADFF-450181E6ED4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691-350E-4C09-8E01-20AACF72C993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122D-D385-40FF-A0E7-7C6FFCAB3FB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9C50-161F-48EE-BEDC-B6BEDCB9089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E1A-3ABF-4EF6-888E-0CC3F6825CE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B805-6653-41AF-BF83-5E53D07E318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7A48-7988-43AB-8367-4FE4A988F2A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4584-019D-42D9-BFB1-928643B1035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3488-A9CF-49D7-83AB-159487E0FFD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7B3C-AAFC-41BD-A9ED-EEF57337917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Light Art e Design della Luc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ocente: Prof.ssa Gisella Gellin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dLM a cui è offerto: tutti i CdLM (NO 1° anno Pssd e D&amp;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N° max studenti ammessi: 90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dalità d’esame per non frequentanti: 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rsi a scelta Laurea Magistrale - 1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alità del cors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cquisire conoscenza dell’illuminazione nel paesaggio urbano, recuperando un approccio culturale alla luce, intesa non solo come fattore tecnico, ma anche artistico ed espressivo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117800" y="1587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1°semest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I Livello – 9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79912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ezioni ex cathedra su temi di colore, luce, suono e percezion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contri con artisti di light art e lighting designer per trasmettere una panoramica dei diversi modi di utilizzare la luce in varie manifestazioni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viluppo da parte degli studenti di un concept progettuale, considerando le problematiche del risparmio energetico e della valorizzazione delle risors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Cecilia Brianza</cp:lastModifiedBy>
  <cp:lastPrinted>2003-05-08T11:08:41Z</cp:lastPrinted>
  <dcterms:modified xsi:type="dcterms:W3CDTF">2014-07-12T13:00:21Z</dcterms:modified>
  <cp:revision>214</cp:revision>
  <dc:subject/>
  <dc:title>Inserire immagine della locandina, possibilmente in trasparenza e aggiungere Facoltà di Architettura Illustrazione prova di ammissione prof. Silvia Piardi (idem Cedolin)</dc:title>
</cp:coreProperties>
</file>